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D0D-F9B7-41AB-B1EA-16E9B1D0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E3E-0342-4C8B-9E37-B8363F7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828-24C7-4531-8992-DDCC57BF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6CE-6FB6-447A-946B-D8683EDF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6276-BE9E-4BD4-8C96-1484D403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608-4668-4D0C-B9DA-9C2259DF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EF3-0647-4AD2-8154-69AAADA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7077-998B-4F2C-B3A2-2A79ABAF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486D-C4F6-46AE-9F88-F57F137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D8BA-F8FF-4D9E-B8F3-D1AAE27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CD5C-39B4-4A79-B402-DC38085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8AC-0E29-47F2-A382-70B47A5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97C-374A-40A8-9375-F6BCBE47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8B2D-E8E9-43C2-BB77-BBA7AEC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D33-0E5D-459E-A56C-20B82270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D97-2BE7-4F6A-8EE8-BAB502F4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598B-F6C2-47CB-89F8-8F133ED5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2DA-1928-461E-9779-8E9E15A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077-4C4A-4B46-A3B1-38E65E6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4B9-AE11-4C0A-A9BA-2605ADD5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598-6E5B-459F-B756-A6374211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64F-2DF2-4E8C-AE32-2577FC7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B01-E95A-48A8-8280-AEDA24E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924-1FA4-4046-ADB9-29940DD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576-293B-485A-8CAB-500DD925A3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ED4-C43B-4D54-9055-62C7B5D753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Bible St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, Review, Review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given promises from G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endants will become great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 blessed materially and spiritu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will be exal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 a blessi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rough his seed all nations will be bles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endants will receive the land of Can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 of the Bible is the story of fulfilling these prom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The great nation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 The spiritual blessing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 The land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travels to Canaan with wife Sarai and nephew 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bout 2000 years before Chri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es to Egypt due to f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s to Can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and Lot sepa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rescues 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called a “Hebrew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blessed by Melchiz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14720" y="1981080"/>
            <a:ext cx="369540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80880" y="165240"/>
            <a:ext cx="8586720" cy="6693480"/>
            <a:chOff x="380880" y="165240"/>
            <a:chExt cx="8586720" cy="6693480"/>
          </a:xfrm>
        </p:grpSpPr>
        <p:grpSp>
          <p:nvGrpSpPr>
            <p:cNvPr id="149" name=""/>
            <p:cNvGrpSpPr/>
            <p:nvPr/>
          </p:nvGrpSpPr>
          <p:grpSpPr>
            <a:xfrm>
              <a:off x="380880" y="165240"/>
              <a:ext cx="8586720" cy="6693480"/>
              <a:chOff x="380880" y="165240"/>
              <a:chExt cx="8586720" cy="6693480"/>
            </a:xfrm>
          </p:grpSpPr>
          <p:sp>
            <p:nvSpPr>
              <p:cNvPr id="150" name=""/>
              <p:cNvSpPr/>
              <p:nvPr/>
            </p:nvSpPr>
            <p:spPr>
              <a:xfrm flipH="1" flipV="1">
                <a:off x="5559120" y="2731680"/>
                <a:ext cx="190080" cy="10476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605200" y="2913120"/>
                <a:ext cx="204480" cy="954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817160" y="2611080"/>
                <a:ext cx="309240" cy="11772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920840" y="2469960"/>
                <a:ext cx="193320" cy="1206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880" y="236520"/>
                <a:ext cx="8586720" cy="66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72400" y="3872160"/>
                <a:ext cx="193392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</a:rPr>
                  <a:t>Egypt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80000">
                <a:off x="505080" y="3204720"/>
                <a:ext cx="882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il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89440" y="2281320"/>
                <a:ext cx="1912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Nile Delt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21720" y="1357560"/>
                <a:ext cx="46926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Mediterranean Se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71840" y="6404040"/>
                <a:ext cx="1796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ASA Phot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7040" y="4356000"/>
                <a:ext cx="1172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inai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08040" y="817560"/>
                <a:ext cx="6514560" cy="2216160"/>
              </a:xfrm>
              <a:custGeom>
                <a:avLst/>
                <a:gdLst/>
                <a:ahLst/>
                <a:rect l="l" t="t" r="r" b="b"/>
                <a:pathLst>
                  <a:path w="4104" h="1396">
                    <a:moveTo>
                      <a:pt x="4103" y="135"/>
                    </a:moveTo>
                    <a:lnTo>
                      <a:pt x="4075" y="116"/>
                    </a:lnTo>
                    <a:lnTo>
                      <a:pt x="4056" y="87"/>
                    </a:lnTo>
                    <a:lnTo>
                      <a:pt x="4028" y="68"/>
                    </a:lnTo>
                    <a:lnTo>
                      <a:pt x="3991" y="58"/>
                    </a:lnTo>
                    <a:lnTo>
                      <a:pt x="3963" y="28"/>
                    </a:lnTo>
                    <a:lnTo>
                      <a:pt x="3935" y="19"/>
                    </a:lnTo>
                    <a:lnTo>
                      <a:pt x="3898" y="0"/>
                    </a:lnTo>
                    <a:lnTo>
                      <a:pt x="3870" y="0"/>
                    </a:lnTo>
                    <a:lnTo>
                      <a:pt x="3842" y="19"/>
                    </a:lnTo>
                    <a:lnTo>
                      <a:pt x="3815" y="48"/>
                    </a:lnTo>
                    <a:lnTo>
                      <a:pt x="3786" y="77"/>
                    </a:lnTo>
                    <a:lnTo>
                      <a:pt x="3768" y="106"/>
                    </a:lnTo>
                    <a:lnTo>
                      <a:pt x="3740" y="125"/>
                    </a:lnTo>
                    <a:lnTo>
                      <a:pt x="3721" y="154"/>
                    </a:lnTo>
                    <a:lnTo>
                      <a:pt x="3693" y="174"/>
                    </a:lnTo>
                    <a:lnTo>
                      <a:pt x="3665" y="203"/>
                    </a:lnTo>
                    <a:lnTo>
                      <a:pt x="3637" y="213"/>
                    </a:lnTo>
                    <a:lnTo>
                      <a:pt x="3609" y="242"/>
                    </a:lnTo>
                    <a:lnTo>
                      <a:pt x="3572" y="271"/>
                    </a:lnTo>
                    <a:lnTo>
                      <a:pt x="3544" y="291"/>
                    </a:lnTo>
                    <a:lnTo>
                      <a:pt x="3515" y="310"/>
                    </a:lnTo>
                    <a:lnTo>
                      <a:pt x="3488" y="339"/>
                    </a:lnTo>
                    <a:lnTo>
                      <a:pt x="3460" y="358"/>
                    </a:lnTo>
                    <a:lnTo>
                      <a:pt x="3432" y="378"/>
                    </a:lnTo>
                    <a:lnTo>
                      <a:pt x="3404" y="407"/>
                    </a:lnTo>
                    <a:lnTo>
                      <a:pt x="3375" y="426"/>
                    </a:lnTo>
                    <a:lnTo>
                      <a:pt x="3339" y="455"/>
                    </a:lnTo>
                    <a:lnTo>
                      <a:pt x="3310" y="474"/>
                    </a:lnTo>
                    <a:lnTo>
                      <a:pt x="3282" y="494"/>
                    </a:lnTo>
                    <a:lnTo>
                      <a:pt x="3245" y="513"/>
                    </a:lnTo>
                    <a:lnTo>
                      <a:pt x="3162" y="533"/>
                    </a:lnTo>
                    <a:lnTo>
                      <a:pt x="3096" y="542"/>
                    </a:lnTo>
                    <a:lnTo>
                      <a:pt x="3069" y="571"/>
                    </a:lnTo>
                    <a:lnTo>
                      <a:pt x="2984" y="591"/>
                    </a:lnTo>
                    <a:lnTo>
                      <a:pt x="2956" y="610"/>
                    </a:lnTo>
                    <a:lnTo>
                      <a:pt x="2919" y="639"/>
                    </a:lnTo>
                    <a:lnTo>
                      <a:pt x="2891" y="658"/>
                    </a:lnTo>
                    <a:lnTo>
                      <a:pt x="2872" y="687"/>
                    </a:lnTo>
                    <a:lnTo>
                      <a:pt x="2844" y="707"/>
                    </a:lnTo>
                    <a:lnTo>
                      <a:pt x="2826" y="736"/>
                    </a:lnTo>
                    <a:lnTo>
                      <a:pt x="2798" y="746"/>
                    </a:lnTo>
                    <a:lnTo>
                      <a:pt x="2732" y="765"/>
                    </a:lnTo>
                    <a:lnTo>
                      <a:pt x="2658" y="784"/>
                    </a:lnTo>
                    <a:lnTo>
                      <a:pt x="2593" y="803"/>
                    </a:lnTo>
                    <a:lnTo>
                      <a:pt x="2518" y="824"/>
                    </a:lnTo>
                    <a:lnTo>
                      <a:pt x="2453" y="843"/>
                    </a:lnTo>
                    <a:lnTo>
                      <a:pt x="2425" y="862"/>
                    </a:lnTo>
                    <a:lnTo>
                      <a:pt x="2396" y="949"/>
                    </a:lnTo>
                    <a:lnTo>
                      <a:pt x="2378" y="1017"/>
                    </a:lnTo>
                    <a:lnTo>
                      <a:pt x="2359" y="1094"/>
                    </a:lnTo>
                    <a:lnTo>
                      <a:pt x="2341" y="1123"/>
                    </a:lnTo>
                    <a:lnTo>
                      <a:pt x="2313" y="1143"/>
                    </a:lnTo>
                    <a:lnTo>
                      <a:pt x="2229" y="1153"/>
                    </a:lnTo>
                    <a:lnTo>
                      <a:pt x="2145" y="1153"/>
                    </a:lnTo>
                    <a:lnTo>
                      <a:pt x="2117" y="1163"/>
                    </a:lnTo>
                    <a:lnTo>
                      <a:pt x="2052" y="1163"/>
                    </a:lnTo>
                    <a:lnTo>
                      <a:pt x="2023" y="1172"/>
                    </a:lnTo>
                    <a:lnTo>
                      <a:pt x="1986" y="1191"/>
                    </a:lnTo>
                    <a:lnTo>
                      <a:pt x="1903" y="1201"/>
                    </a:lnTo>
                    <a:lnTo>
                      <a:pt x="1818" y="1220"/>
                    </a:lnTo>
                    <a:lnTo>
                      <a:pt x="1790" y="1230"/>
                    </a:lnTo>
                    <a:lnTo>
                      <a:pt x="1753" y="1230"/>
                    </a:lnTo>
                    <a:lnTo>
                      <a:pt x="1725" y="1230"/>
                    </a:lnTo>
                    <a:lnTo>
                      <a:pt x="1642" y="1230"/>
                    </a:lnTo>
                    <a:lnTo>
                      <a:pt x="1557" y="1230"/>
                    </a:lnTo>
                    <a:lnTo>
                      <a:pt x="1474" y="1230"/>
                    </a:lnTo>
                    <a:lnTo>
                      <a:pt x="1445" y="1240"/>
                    </a:lnTo>
                    <a:lnTo>
                      <a:pt x="1371" y="1240"/>
                    </a:lnTo>
                    <a:lnTo>
                      <a:pt x="1287" y="1250"/>
                    </a:lnTo>
                    <a:lnTo>
                      <a:pt x="1212" y="1250"/>
                    </a:lnTo>
                    <a:lnTo>
                      <a:pt x="1147" y="1250"/>
                    </a:lnTo>
                    <a:lnTo>
                      <a:pt x="1072" y="1260"/>
                    </a:lnTo>
                    <a:lnTo>
                      <a:pt x="961" y="1260"/>
                    </a:lnTo>
                    <a:lnTo>
                      <a:pt x="886" y="1269"/>
                    </a:lnTo>
                    <a:lnTo>
                      <a:pt x="811" y="1269"/>
                    </a:lnTo>
                    <a:lnTo>
                      <a:pt x="737" y="1279"/>
                    </a:lnTo>
                    <a:lnTo>
                      <a:pt x="709" y="1279"/>
                    </a:lnTo>
                    <a:lnTo>
                      <a:pt x="634" y="1279"/>
                    </a:lnTo>
                    <a:lnTo>
                      <a:pt x="551" y="1288"/>
                    </a:lnTo>
                    <a:lnTo>
                      <a:pt x="523" y="1288"/>
                    </a:lnTo>
                    <a:lnTo>
                      <a:pt x="448" y="1298"/>
                    </a:lnTo>
                    <a:lnTo>
                      <a:pt x="364" y="1308"/>
                    </a:lnTo>
                    <a:lnTo>
                      <a:pt x="336" y="1308"/>
                    </a:lnTo>
                    <a:lnTo>
                      <a:pt x="261" y="1308"/>
                    </a:lnTo>
                    <a:lnTo>
                      <a:pt x="233" y="1317"/>
                    </a:lnTo>
                    <a:lnTo>
                      <a:pt x="168" y="1317"/>
                    </a:lnTo>
                    <a:lnTo>
                      <a:pt x="140" y="1317"/>
                    </a:lnTo>
                    <a:lnTo>
                      <a:pt x="65" y="1317"/>
                    </a:lnTo>
                    <a:lnTo>
                      <a:pt x="28" y="1317"/>
                    </a:lnTo>
                    <a:lnTo>
                      <a:pt x="0" y="1317"/>
                    </a:lnTo>
                    <a:lnTo>
                      <a:pt x="28" y="1336"/>
                    </a:lnTo>
                    <a:lnTo>
                      <a:pt x="56" y="1347"/>
                    </a:lnTo>
                    <a:lnTo>
                      <a:pt x="85" y="1357"/>
                    </a:lnTo>
                    <a:lnTo>
                      <a:pt x="121" y="1376"/>
                    </a:lnTo>
                    <a:lnTo>
                      <a:pt x="150" y="1376"/>
                    </a:lnTo>
                    <a:lnTo>
                      <a:pt x="178" y="1376"/>
                    </a:lnTo>
                    <a:lnTo>
                      <a:pt x="215" y="1376"/>
                    </a:lnTo>
                    <a:lnTo>
                      <a:pt x="243" y="1376"/>
                    </a:lnTo>
                    <a:lnTo>
                      <a:pt x="271" y="1376"/>
                    </a:lnTo>
                    <a:lnTo>
                      <a:pt x="308" y="1376"/>
                    </a:lnTo>
                    <a:lnTo>
                      <a:pt x="391" y="1376"/>
                    </a:lnTo>
                    <a:lnTo>
                      <a:pt x="420" y="1385"/>
                    </a:lnTo>
                    <a:lnTo>
                      <a:pt x="504" y="1385"/>
                    </a:lnTo>
                    <a:lnTo>
                      <a:pt x="588" y="1385"/>
                    </a:lnTo>
                    <a:lnTo>
                      <a:pt x="616" y="1385"/>
                    </a:lnTo>
                    <a:lnTo>
                      <a:pt x="644" y="1385"/>
                    </a:lnTo>
                    <a:lnTo>
                      <a:pt x="681" y="1385"/>
                    </a:lnTo>
                    <a:lnTo>
                      <a:pt x="746" y="1385"/>
                    </a:lnTo>
                    <a:lnTo>
                      <a:pt x="774" y="1385"/>
                    </a:lnTo>
                    <a:lnTo>
                      <a:pt x="839" y="1385"/>
                    </a:lnTo>
                    <a:lnTo>
                      <a:pt x="904" y="1385"/>
                    </a:lnTo>
                    <a:lnTo>
                      <a:pt x="933" y="1385"/>
                    </a:lnTo>
                    <a:lnTo>
                      <a:pt x="961" y="1385"/>
                    </a:lnTo>
                    <a:lnTo>
                      <a:pt x="1035" y="1385"/>
                    </a:lnTo>
                    <a:lnTo>
                      <a:pt x="1064" y="1385"/>
                    </a:lnTo>
                    <a:lnTo>
                      <a:pt x="1101" y="1385"/>
                    </a:lnTo>
                    <a:lnTo>
                      <a:pt x="1184" y="1395"/>
                    </a:lnTo>
                    <a:lnTo>
                      <a:pt x="1269" y="1395"/>
                    </a:lnTo>
                    <a:lnTo>
                      <a:pt x="1352" y="1395"/>
                    </a:lnTo>
                    <a:lnTo>
                      <a:pt x="1427" y="1395"/>
                    </a:lnTo>
                    <a:lnTo>
                      <a:pt x="1492" y="1395"/>
                    </a:lnTo>
                    <a:lnTo>
                      <a:pt x="1520" y="1395"/>
                    </a:lnTo>
                    <a:lnTo>
                      <a:pt x="1585" y="1395"/>
                    </a:lnTo>
                    <a:lnTo>
                      <a:pt x="1660" y="1395"/>
                    </a:lnTo>
                    <a:lnTo>
                      <a:pt x="1725" y="1395"/>
                    </a:lnTo>
                    <a:lnTo>
                      <a:pt x="1790" y="1395"/>
                    </a:lnTo>
                    <a:lnTo>
                      <a:pt x="1818" y="1395"/>
                    </a:lnTo>
                    <a:lnTo>
                      <a:pt x="1883" y="1395"/>
                    </a:lnTo>
                    <a:lnTo>
                      <a:pt x="1950" y="1395"/>
                    </a:lnTo>
                    <a:lnTo>
                      <a:pt x="2015" y="1395"/>
                    </a:lnTo>
                    <a:lnTo>
                      <a:pt x="2089" y="1395"/>
                    </a:lnTo>
                    <a:lnTo>
                      <a:pt x="2163" y="1395"/>
                    </a:lnTo>
                    <a:lnTo>
                      <a:pt x="2229" y="1395"/>
                    </a:lnTo>
                    <a:lnTo>
                      <a:pt x="2303" y="1395"/>
                    </a:lnTo>
                    <a:lnTo>
                      <a:pt x="2378" y="1395"/>
                    </a:lnTo>
                    <a:lnTo>
                      <a:pt x="2462" y="1385"/>
                    </a:lnTo>
                    <a:lnTo>
                      <a:pt x="2499" y="1376"/>
                    </a:lnTo>
                    <a:lnTo>
                      <a:pt x="2527" y="1347"/>
                    </a:lnTo>
                    <a:lnTo>
                      <a:pt x="2556" y="1327"/>
                    </a:lnTo>
                    <a:lnTo>
                      <a:pt x="2593" y="1298"/>
                    </a:lnTo>
                    <a:lnTo>
                      <a:pt x="2621" y="1288"/>
                    </a:lnTo>
                    <a:lnTo>
                      <a:pt x="2649" y="1260"/>
                    </a:lnTo>
                    <a:lnTo>
                      <a:pt x="2676" y="1230"/>
                    </a:lnTo>
                    <a:lnTo>
                      <a:pt x="2704" y="1201"/>
                    </a:lnTo>
                    <a:lnTo>
                      <a:pt x="2714" y="1134"/>
                    </a:lnTo>
                    <a:lnTo>
                      <a:pt x="2732" y="1104"/>
                    </a:lnTo>
                    <a:lnTo>
                      <a:pt x="2751" y="1075"/>
                    </a:lnTo>
                    <a:lnTo>
                      <a:pt x="2761" y="1007"/>
                    </a:lnTo>
                    <a:lnTo>
                      <a:pt x="2789" y="988"/>
                    </a:lnTo>
                    <a:lnTo>
                      <a:pt x="2798" y="959"/>
                    </a:lnTo>
                    <a:lnTo>
                      <a:pt x="2826" y="930"/>
                    </a:lnTo>
                    <a:lnTo>
                      <a:pt x="2854" y="900"/>
                    </a:lnTo>
                    <a:lnTo>
                      <a:pt x="2882" y="862"/>
                    </a:lnTo>
                    <a:lnTo>
                      <a:pt x="2909" y="833"/>
                    </a:lnTo>
                    <a:lnTo>
                      <a:pt x="2929" y="803"/>
                    </a:lnTo>
                  </a:path>
                </a:pathLst>
              </a:custGeom>
              <a:noFill/>
              <a:ln cap="rnd" w="50760">
                <a:solidFill>
                  <a:srgbClr val="ff50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19920" y="927000"/>
                <a:ext cx="17071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afd00"/>
                    </a:solidFill>
                    <a:latin typeface="Times New Roman"/>
                  </a:rPr>
                  <a:t>Canaan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20" y="6524640"/>
                <a:ext cx="17985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©  EBibleTeacher.com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9040" y="165240"/>
                <a:ext cx="7492680" cy="1095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fafd00"/>
                    </a:solidFill>
                    <a:uFillTx/>
                    <a:latin typeface="Times New Roman"/>
                  </a:rPr>
                  <a:t>Abraham’s Journey to Egypt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rot="16091400">
              <a:off x="4898880" y="2639880"/>
              <a:ext cx="15552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5508600">
              <a:off x="5379480" y="2892240"/>
              <a:ext cx="15552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5092400">
              <a:off x="7418160" y="1530360"/>
              <a:ext cx="15552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mael born to Abram and H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nant of circum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called “Abraham”; Sarai called “Sara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truction of Sodom and Gomor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es destroyed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 and his family esc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’s wife turned to pillar of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 has sons by his daugh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ab (Moabites) and Benammi (Ammoni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 born to Abraham and Sa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mael and Hagar sent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offers Isaac as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rah 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gets Rebekah for Isaac’s w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marries Keturah; she bore him six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died at age of 175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 and Rebekah’s  two 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au and Jac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au sold his birthright to Jac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receives Isaac’s bless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works 14 years for Rach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marries Leah first; then Rach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endants of Jacob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505240"/>
            <a:ext cx="20574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Le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u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e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ach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bul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2514600"/>
            <a:ext cx="2286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Bilh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pht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495680"/>
            <a:ext cx="2210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Zilp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514600"/>
            <a:ext cx="2666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Rach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se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ja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sold into slavery by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rayed by Potiphar’s wife and jai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becomes a ruler in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ne causes his brothers to come to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and Joseph re-united in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has two 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sseh and Ephra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5.  The Exod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ll of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plagues upon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ites cross the Red 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veled south to Mt. Sin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Commandments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ernacle built and fur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ests to mediate between God and Israel, and offer sacrif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1. Before the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in in “the gard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romise of a Savior (Gen. 3: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in killed his brother 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ions of Ad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5.  The Exod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nce of the Passover Fe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times, feasts and laws established by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 distinct 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od as their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 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promise fulf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traveled north to Kad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6.  Wilderness Wander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elve spies sent into land of Can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ua and Caleb tell the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punished by 40 years of wandering in the wilder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last year of wandering, they traveled east around the Dead S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eat Sihon (Amorites)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g (Bash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dies and Joshua becomes lea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8600" y="100080"/>
            <a:ext cx="8715240" cy="6757920"/>
            <a:chOff x="228600" y="100080"/>
            <a:chExt cx="8715240" cy="6757920"/>
          </a:xfrm>
        </p:grpSpPr>
        <p:grpSp>
          <p:nvGrpSpPr>
            <p:cNvPr id="189" name=""/>
            <p:cNvGrpSpPr/>
            <p:nvPr/>
          </p:nvGrpSpPr>
          <p:grpSpPr>
            <a:xfrm>
              <a:off x="228600" y="100080"/>
              <a:ext cx="8715240" cy="6757920"/>
              <a:chOff x="228600" y="100080"/>
              <a:chExt cx="8715240" cy="675792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00080"/>
                <a:ext cx="8715240" cy="675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29480" y="4552920"/>
                <a:ext cx="14799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Egypt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46400" y="1986120"/>
                <a:ext cx="125604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Ni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Delt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2040" y="480960"/>
                <a:ext cx="2708280" cy="11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Great Se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(Mediterranean)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94280" y="6153120"/>
                <a:ext cx="1414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feb9"/>
                    </a:solidFill>
                    <a:latin typeface="Times New Roman"/>
                  </a:rPr>
                  <a:t>Red Se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76480" y="2871720"/>
                <a:ext cx="1875960" cy="9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inai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eninsul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36560" y="1382760"/>
                <a:ext cx="1539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Canaa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5840" y="341280"/>
                <a:ext cx="2095560" cy="136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Tradition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Route of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the Exodu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8600" y="6199200"/>
                <a:ext cx="20970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ASA Pho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©  EBibleTeacher.com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72960" y="3486240"/>
                <a:ext cx="1320480" cy="506520"/>
              </a:xfrm>
              <a:prstGeom prst="rightArrow">
                <a:avLst>
                  <a:gd name="adj1" fmla="val 50000"/>
                  <a:gd name="adj2" fmla="val 130360"/>
                </a:avLst>
              </a:prstGeom>
              <a:solidFill>
                <a:srgbClr val="fafd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0520" y="3898800"/>
                <a:ext cx="2897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Quail/Manna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296680" y="5315040"/>
                <a:ext cx="1320120" cy="506520"/>
              </a:xfrm>
              <a:prstGeom prst="rightArrow">
                <a:avLst>
                  <a:gd name="adj1" fmla="val 50000"/>
                  <a:gd name="adj2" fmla="val 130325"/>
                </a:avLst>
              </a:prstGeom>
              <a:solidFill>
                <a:srgbClr val="fafd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51480" y="4540320"/>
                <a:ext cx="22694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Mt. Sinai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11800" y="2114640"/>
                <a:ext cx="1320120" cy="506520"/>
              </a:xfrm>
              <a:prstGeom prst="rightArrow">
                <a:avLst>
                  <a:gd name="adj1" fmla="val 50000"/>
                  <a:gd name="adj2" fmla="val 130325"/>
                </a:avLst>
              </a:prstGeom>
              <a:solidFill>
                <a:srgbClr val="fafd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89520" y="1949400"/>
                <a:ext cx="224028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12 Spies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29400" y="1390680"/>
                <a:ext cx="291600" cy="216000"/>
              </a:xfrm>
              <a:prstGeom prst="star5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56760" y="730440"/>
                <a:ext cx="19857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Jericho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1960" y="1612800"/>
                <a:ext cx="6220800" cy="4219560"/>
              </a:xfrm>
              <a:custGeom>
                <a:avLst/>
                <a:gdLst/>
                <a:ahLst/>
                <a:rect l="l" t="t" r="r" b="b"/>
                <a:pathLst>
                  <a:path w="3919" h="2658">
                    <a:moveTo>
                      <a:pt x="0" y="672"/>
                    </a:moveTo>
                    <a:lnTo>
                      <a:pt x="48" y="720"/>
                    </a:lnTo>
                    <a:lnTo>
                      <a:pt x="48" y="720"/>
                    </a:lnTo>
                    <a:lnTo>
                      <a:pt x="97" y="768"/>
                    </a:lnTo>
                    <a:lnTo>
                      <a:pt x="145" y="864"/>
                    </a:lnTo>
                    <a:lnTo>
                      <a:pt x="192" y="1008"/>
                    </a:lnTo>
                    <a:lnTo>
                      <a:pt x="289" y="1104"/>
                    </a:lnTo>
                    <a:lnTo>
                      <a:pt x="336" y="1152"/>
                    </a:lnTo>
                    <a:lnTo>
                      <a:pt x="433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529" y="1200"/>
                    </a:lnTo>
                    <a:lnTo>
                      <a:pt x="577" y="1200"/>
                    </a:lnTo>
                    <a:lnTo>
                      <a:pt x="577" y="1200"/>
                    </a:lnTo>
                    <a:lnTo>
                      <a:pt x="626" y="1244"/>
                    </a:lnTo>
                    <a:lnTo>
                      <a:pt x="626" y="1285"/>
                    </a:lnTo>
                    <a:lnTo>
                      <a:pt x="626" y="1329"/>
                    </a:lnTo>
                    <a:lnTo>
                      <a:pt x="637" y="1370"/>
                    </a:lnTo>
                    <a:lnTo>
                      <a:pt x="681" y="1409"/>
                    </a:lnTo>
                    <a:lnTo>
                      <a:pt x="696" y="1453"/>
                    </a:lnTo>
                    <a:lnTo>
                      <a:pt x="696" y="1494"/>
                    </a:lnTo>
                    <a:lnTo>
                      <a:pt x="707" y="1538"/>
                    </a:lnTo>
                    <a:lnTo>
                      <a:pt x="707" y="1579"/>
                    </a:lnTo>
                    <a:lnTo>
                      <a:pt x="707" y="1620"/>
                    </a:lnTo>
                    <a:lnTo>
                      <a:pt x="707" y="1663"/>
                    </a:lnTo>
                    <a:lnTo>
                      <a:pt x="696" y="1704"/>
                    </a:lnTo>
                    <a:lnTo>
                      <a:pt x="681" y="1748"/>
                    </a:lnTo>
                    <a:lnTo>
                      <a:pt x="681" y="1789"/>
                    </a:lnTo>
                    <a:lnTo>
                      <a:pt x="681" y="1830"/>
                    </a:lnTo>
                    <a:lnTo>
                      <a:pt x="681" y="1874"/>
                    </a:lnTo>
                    <a:lnTo>
                      <a:pt x="681" y="1928"/>
                    </a:lnTo>
                    <a:lnTo>
                      <a:pt x="681" y="1969"/>
                    </a:lnTo>
                    <a:lnTo>
                      <a:pt x="681" y="2013"/>
                    </a:lnTo>
                    <a:lnTo>
                      <a:pt x="696" y="2054"/>
                    </a:lnTo>
                    <a:lnTo>
                      <a:pt x="723" y="2097"/>
                    </a:lnTo>
                    <a:lnTo>
                      <a:pt x="752" y="2138"/>
                    </a:lnTo>
                    <a:lnTo>
                      <a:pt x="778" y="2179"/>
                    </a:lnTo>
                    <a:lnTo>
                      <a:pt x="822" y="2223"/>
                    </a:lnTo>
                    <a:lnTo>
                      <a:pt x="864" y="2249"/>
                    </a:lnTo>
                    <a:lnTo>
                      <a:pt x="908" y="2293"/>
                    </a:lnTo>
                    <a:lnTo>
                      <a:pt x="950" y="2319"/>
                    </a:lnTo>
                    <a:lnTo>
                      <a:pt x="1005" y="2334"/>
                    </a:lnTo>
                    <a:lnTo>
                      <a:pt x="1034" y="2378"/>
                    </a:lnTo>
                    <a:lnTo>
                      <a:pt x="1062" y="2419"/>
                    </a:lnTo>
                    <a:lnTo>
                      <a:pt x="1105" y="2458"/>
                    </a:lnTo>
                    <a:lnTo>
                      <a:pt x="1132" y="2502"/>
                    </a:lnTo>
                    <a:lnTo>
                      <a:pt x="1175" y="2528"/>
                    </a:lnTo>
                    <a:lnTo>
                      <a:pt x="1217" y="2558"/>
                    </a:lnTo>
                    <a:lnTo>
                      <a:pt x="1261" y="2598"/>
                    </a:lnTo>
                    <a:lnTo>
                      <a:pt x="1303" y="2628"/>
                    </a:lnTo>
                    <a:lnTo>
                      <a:pt x="1344" y="2657"/>
                    </a:lnTo>
                    <a:lnTo>
                      <a:pt x="1389" y="2657"/>
                    </a:lnTo>
                    <a:lnTo>
                      <a:pt x="1444" y="2657"/>
                    </a:lnTo>
                    <a:lnTo>
                      <a:pt x="1444" y="2613"/>
                    </a:lnTo>
                    <a:lnTo>
                      <a:pt x="1459" y="2572"/>
                    </a:lnTo>
                    <a:lnTo>
                      <a:pt x="1486" y="2528"/>
                    </a:lnTo>
                    <a:lnTo>
                      <a:pt x="1530" y="2473"/>
                    </a:lnTo>
                    <a:lnTo>
                      <a:pt x="1571" y="2458"/>
                    </a:lnTo>
                    <a:lnTo>
                      <a:pt x="1616" y="2419"/>
                    </a:lnTo>
                    <a:lnTo>
                      <a:pt x="1671" y="2378"/>
                    </a:lnTo>
                    <a:lnTo>
                      <a:pt x="1713" y="2363"/>
                    </a:lnTo>
                    <a:lnTo>
                      <a:pt x="1757" y="2347"/>
                    </a:lnTo>
                    <a:lnTo>
                      <a:pt x="1812" y="2319"/>
                    </a:lnTo>
                    <a:lnTo>
                      <a:pt x="1854" y="2293"/>
                    </a:lnTo>
                    <a:lnTo>
                      <a:pt x="1883" y="2249"/>
                    </a:lnTo>
                    <a:lnTo>
                      <a:pt x="1924" y="2223"/>
                    </a:lnTo>
                    <a:lnTo>
                      <a:pt x="1940" y="2179"/>
                    </a:lnTo>
                    <a:lnTo>
                      <a:pt x="1969" y="2138"/>
                    </a:lnTo>
                    <a:lnTo>
                      <a:pt x="1980" y="2097"/>
                    </a:lnTo>
                    <a:lnTo>
                      <a:pt x="2010" y="2054"/>
                    </a:lnTo>
                    <a:lnTo>
                      <a:pt x="2024" y="2013"/>
                    </a:lnTo>
                    <a:lnTo>
                      <a:pt x="2039" y="1969"/>
                    </a:lnTo>
                    <a:lnTo>
                      <a:pt x="2050" y="1859"/>
                    </a:lnTo>
                    <a:lnTo>
                      <a:pt x="2050" y="1760"/>
                    </a:lnTo>
                    <a:lnTo>
                      <a:pt x="2066" y="1649"/>
                    </a:lnTo>
                    <a:lnTo>
                      <a:pt x="2066" y="1523"/>
                    </a:lnTo>
                    <a:lnTo>
                      <a:pt x="2081" y="1479"/>
                    </a:lnTo>
                    <a:lnTo>
                      <a:pt x="2110" y="1424"/>
                    </a:lnTo>
                    <a:lnTo>
                      <a:pt x="2121" y="1383"/>
                    </a:lnTo>
                    <a:lnTo>
                      <a:pt x="2151" y="1339"/>
                    </a:lnTo>
                    <a:lnTo>
                      <a:pt x="2193" y="1298"/>
                    </a:lnTo>
                    <a:lnTo>
                      <a:pt x="2236" y="1244"/>
                    </a:lnTo>
                    <a:lnTo>
                      <a:pt x="2251" y="1200"/>
                    </a:lnTo>
                    <a:lnTo>
                      <a:pt x="2293" y="1174"/>
                    </a:lnTo>
                    <a:lnTo>
                      <a:pt x="2322" y="1130"/>
                    </a:lnTo>
                    <a:lnTo>
                      <a:pt x="2363" y="1104"/>
                    </a:lnTo>
                    <a:lnTo>
                      <a:pt x="2405" y="1104"/>
                    </a:lnTo>
                    <a:lnTo>
                      <a:pt x="2449" y="1104"/>
                    </a:lnTo>
                    <a:lnTo>
                      <a:pt x="2504" y="1089"/>
                    </a:lnTo>
                    <a:lnTo>
                      <a:pt x="2546" y="1089"/>
                    </a:lnTo>
                    <a:lnTo>
                      <a:pt x="2590" y="1075"/>
                    </a:lnTo>
                    <a:lnTo>
                      <a:pt x="2632" y="1075"/>
                    </a:lnTo>
                    <a:lnTo>
                      <a:pt x="2732" y="1075"/>
                    </a:lnTo>
                    <a:lnTo>
                      <a:pt x="2773" y="1075"/>
                    </a:lnTo>
                    <a:lnTo>
                      <a:pt x="2817" y="1075"/>
                    </a:lnTo>
                    <a:lnTo>
                      <a:pt x="2873" y="1075"/>
                    </a:lnTo>
                    <a:lnTo>
                      <a:pt x="2914" y="1075"/>
                    </a:lnTo>
                    <a:lnTo>
                      <a:pt x="2959" y="1075"/>
                    </a:lnTo>
                    <a:lnTo>
                      <a:pt x="3000" y="1060"/>
                    </a:lnTo>
                    <a:lnTo>
                      <a:pt x="3055" y="1060"/>
                    </a:lnTo>
                    <a:lnTo>
                      <a:pt x="3100" y="1049"/>
                    </a:lnTo>
                    <a:lnTo>
                      <a:pt x="3141" y="1049"/>
                    </a:lnTo>
                    <a:lnTo>
                      <a:pt x="3197" y="1049"/>
                    </a:lnTo>
                    <a:lnTo>
                      <a:pt x="3241" y="1049"/>
                    </a:lnTo>
                    <a:lnTo>
                      <a:pt x="3283" y="1034"/>
                    </a:lnTo>
                    <a:lnTo>
                      <a:pt x="3324" y="1019"/>
                    </a:lnTo>
                    <a:lnTo>
                      <a:pt x="3367" y="990"/>
                    </a:lnTo>
                    <a:lnTo>
                      <a:pt x="3409" y="964"/>
                    </a:lnTo>
                    <a:lnTo>
                      <a:pt x="3453" y="935"/>
                    </a:lnTo>
                    <a:lnTo>
                      <a:pt x="3312" y="240"/>
                    </a:lnTo>
                    <a:lnTo>
                      <a:pt x="3523" y="851"/>
                    </a:lnTo>
                    <a:lnTo>
                      <a:pt x="3550" y="809"/>
                    </a:lnTo>
                    <a:lnTo>
                      <a:pt x="3580" y="768"/>
                    </a:lnTo>
                    <a:lnTo>
                      <a:pt x="3594" y="725"/>
                    </a:lnTo>
                    <a:lnTo>
                      <a:pt x="3620" y="670"/>
                    </a:lnTo>
                    <a:lnTo>
                      <a:pt x="3636" y="629"/>
                    </a:lnTo>
                    <a:lnTo>
                      <a:pt x="3651" y="585"/>
                    </a:lnTo>
                    <a:lnTo>
                      <a:pt x="3692" y="544"/>
                    </a:lnTo>
                    <a:lnTo>
                      <a:pt x="3721" y="501"/>
                    </a:lnTo>
                    <a:lnTo>
                      <a:pt x="3763" y="474"/>
                    </a:lnTo>
                    <a:lnTo>
                      <a:pt x="3806" y="445"/>
                    </a:lnTo>
                    <a:lnTo>
                      <a:pt x="3834" y="404"/>
                    </a:lnTo>
                    <a:lnTo>
                      <a:pt x="3863" y="360"/>
                    </a:lnTo>
                    <a:lnTo>
                      <a:pt x="3889" y="305"/>
                    </a:lnTo>
                    <a:lnTo>
                      <a:pt x="3918" y="264"/>
                    </a:lnTo>
                    <a:lnTo>
                      <a:pt x="3918" y="221"/>
                    </a:lnTo>
                    <a:lnTo>
                      <a:pt x="3918" y="179"/>
                    </a:lnTo>
                    <a:lnTo>
                      <a:pt x="3904" y="125"/>
                    </a:lnTo>
                    <a:lnTo>
                      <a:pt x="3889" y="81"/>
                    </a:lnTo>
                    <a:lnTo>
                      <a:pt x="3863" y="40"/>
                    </a:lnTo>
                    <a:lnTo>
                      <a:pt x="3818" y="0"/>
                    </a:lnTo>
                  </a:path>
                </a:pathLst>
              </a:custGeom>
              <a:noFill/>
              <a:ln cap="rnd" w="50760">
                <a:solidFill>
                  <a:srgbClr val="ff50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97160" y="5608800"/>
                <a:ext cx="16430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feb9"/>
                    </a:solidFill>
                    <a:latin typeface="Arial"/>
                  </a:rPr>
                  <a:t>Mt. Sina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rot="9582600">
              <a:off x="2788200" y="2923920"/>
              <a:ext cx="15516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05200">
              <a:off x="3626640" y="4485960"/>
              <a:ext cx="15516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1125200">
              <a:off x="5821920" y="4080960"/>
              <a:ext cx="15516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6133400">
              <a:off x="7045920" y="3190320"/>
              <a:ext cx="155880" cy="23148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3000200">
              <a:off x="8627400" y="2137680"/>
              <a:ext cx="155160" cy="23148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the Days of the Judges”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quest of the Land and the Period of the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09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.  Conquest of the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9051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book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an’s Pattern or Cycle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198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st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2655600">
            <a:off x="990360" y="28954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048120"/>
            <a:ext cx="198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l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4038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n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5029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095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655600">
            <a:off x="2209320" y="3962520"/>
            <a:ext cx="1067040" cy="53316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655600">
            <a:off x="3504960" y="49528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655600">
            <a:off x="4800240" y="594360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65560" y="2293920"/>
            <a:ext cx="5192640" cy="4106880"/>
          </a:xfrm>
          <a:custGeom>
            <a:avLst/>
            <a:gdLst/>
            <a:ahLst/>
            <a:rect l="l" t="t" r="r" b="b"/>
            <a:pathLst>
              <a:path w="3282" h="2395">
                <a:moveTo>
                  <a:pt x="2647" y="2395"/>
                </a:moveTo>
                <a:lnTo>
                  <a:pt x="3282" y="2395"/>
                </a:lnTo>
                <a:lnTo>
                  <a:pt x="327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.  Conquest of the La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includes crossing Jordan until the death of Josh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invades the land of Can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icho defeated and destr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 after battle, Israel gains the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divided among the tri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f the three promises fulf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ATION and the LAND prom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. The Judges (15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1981080"/>
            <a:ext cx="3276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. The Judges (15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lasted 400+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last judge when people asked for a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ous cyc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ould turn to id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my would oppress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ould rep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ould send a deliverer (ju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they would have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1. Before the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ions of Adam (Christ lin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nan (Cain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halal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och (Went to heaven without dy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udelah – Lived 969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m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2.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kind becomes very wi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arns Noah to prepare for the f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ah built an large 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od:  in ark for 1 year and 10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 souls saved along with the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2.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covenant with No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fruitful and multi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minion over the 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t added as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 punishment star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hibition against eating bl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99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Blood associated with the life of the creatu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rainbow in the clou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ah lived 350 years after 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to the age of 950 (life spans dropp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257040"/>
            <a:ext cx="9067680" cy="6364440"/>
            <a:chOff x="0" y="257040"/>
            <a:chExt cx="9067680" cy="6364440"/>
          </a:xfrm>
        </p:grpSpPr>
        <p:sp>
          <p:nvSpPr>
            <p:cNvPr id="120" name=""/>
            <p:cNvSpPr/>
            <p:nvPr/>
          </p:nvSpPr>
          <p:spPr>
            <a:xfrm>
              <a:off x="1181160" y="609480"/>
              <a:ext cx="77151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Times New Roman"/>
                </a:rPr>
                <a:t>Click to add title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57400" y="1981080"/>
              <a:ext cx="77914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eaeaea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lick to add 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257040"/>
              <a:ext cx="9067680" cy="63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95080" y="4253040"/>
              <a:ext cx="5154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Mediterranean Se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480" y="5638680"/>
              <a:ext cx="1757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ypru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4760" y="1631880"/>
              <a:ext cx="26791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Turkey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40640" y="1301760"/>
              <a:ext cx="444600" cy="444600"/>
            </a:xfrm>
            <a:prstGeom prst="star5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43960" y="914400"/>
              <a:ext cx="1551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afd00"/>
                  </a:solidFill>
                  <a:uFillTx/>
                  <a:latin typeface="Arial"/>
                </a:rPr>
                <a:t>Moun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afd00"/>
                  </a:solidFill>
                  <a:uFillTx/>
                  <a:latin typeface="Arial"/>
                </a:rPr>
                <a:t>Arara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50320" y="6157800"/>
              <a:ext cx="179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ASA Pho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60" y="352440"/>
              <a:ext cx="1798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©  EBibleTeacher.com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00000">
              <a:off x="5796360" y="5873760"/>
              <a:ext cx="825480" cy="368280"/>
            </a:xfrm>
            <a:prstGeom prst="rightArrow">
              <a:avLst>
                <a:gd name="adj1" fmla="val 50000"/>
                <a:gd name="adj2" fmla="val 112082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85680" y="5486400"/>
              <a:ext cx="137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srae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3. The Scattering of the Peo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ah’s descendant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pheth, Ham, S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moved into the valley of Mesopotamia; the land of Shin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together with one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o themselves a city and a Tower of Bab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confounded their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cattered across “the face of the ear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3. The Scattering of the Peo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ions of Noah (linage of Chri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hax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eg (people scattered in this gener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2:37:07Z</dcterms:created>
  <dc:creator>Frank D Vines</dc:creator>
  <dc:description/>
  <dc:language>en-US</dc:language>
  <cp:lastModifiedBy>Frank D Vines</cp:lastModifiedBy>
  <dcterms:modified xsi:type="dcterms:W3CDTF">2008-10-04T22:37:45Z</dcterms:modified>
  <cp:revision>24</cp:revision>
  <dc:subject/>
  <dc:title>In the Days of the Judges</dc:title>
</cp:coreProperties>
</file>